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3EF-F522-477B-B627-3435BED5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197-4690-4C05-BEA4-7AFF088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09D9-13F9-4C30-9991-E05A9805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7E1F-F98C-4331-9A7C-1E128040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964-F8FF-4D02-98BC-5FA38D79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FBA-5CA7-4282-AE07-50043FE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968-8A98-481F-8EC2-7AF54E11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C27-0D5F-4E8D-9D29-A205CEA9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157-1907-4ECC-854A-5EE8A7B3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C0C-AD0B-42CE-BED4-11A43730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8B0-E66E-4614-889D-820B1D47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453-F579-4248-B913-7EDC7E5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7FD7-4234-42F3-AAE3-E32E5C96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 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know where China 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Blank Map of Asia"/>
          <p:cNvPicPr/>
          <p:nvPr/>
        </p:nvPicPr>
        <p:blipFill>
          <a:blip r:embed="rId1"/>
          <a:stretch/>
        </p:blipFill>
        <p:spPr>
          <a:xfrm>
            <a:off x="4648320" y="1523880"/>
            <a:ext cx="3798720" cy="4800600"/>
          </a:xfrm>
          <a:prstGeom prst="rect">
            <a:avLst/>
          </a:prstGeom>
          <a:ln w="0">
            <a:noFill/>
          </a:ln>
        </p:spPr>
      </p:pic>
      <p:sp>
        <p:nvSpPr>
          <p:cNvPr id="44" name="Oval 5"/>
          <p:cNvSpPr/>
          <p:nvPr/>
        </p:nvSpPr>
        <p:spPr>
          <a:xfrm rot="1241400">
            <a:off x="6395760" y="3901680"/>
            <a:ext cx="1433520" cy="83520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EASE TURN TO PAGE 1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xing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47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mads from the north entered China during the Period of Disunion, they lived peacefully with the Chinese and mixe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thern Chinese also mixed cultures with peoples living in souther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cultures mixed, new art and music developed and Chinese cultur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Wang Zhaojun's tomb mound"/>
          <p:cNvPicPr/>
          <p:nvPr/>
        </p:nvPicPr>
        <p:blipFill>
          <a:blip r:embed="rId1"/>
          <a:stretch/>
        </p:blipFill>
        <p:spPr>
          <a:xfrm>
            <a:off x="6934320" y="2057400"/>
            <a:ext cx="19047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un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eriod of Disunion lasted from 220-5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ended when the ruler Yang Jian conquered southern China and formed the Sui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 would remain unified for about 7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ui1"/>
          <p:cNvPicPr/>
          <p:nvPr/>
        </p:nvPicPr>
        <p:blipFill>
          <a:blip r:embed="rId1"/>
          <a:stretch/>
        </p:blipFill>
        <p:spPr>
          <a:xfrm>
            <a:off x="6705720" y="4800600"/>
            <a:ext cx="1714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i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05320" y="2209680"/>
            <a:ext cx="5486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s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unification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a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8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Yang Jian, a ruler from the north, conquered the south and unified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ui dynasty lasted till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618 – that’s only 29 yea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ui"/>
          <p:cNvPicPr/>
          <p:nvPr/>
        </p:nvPicPr>
        <p:blipFill>
          <a:blip r:embed="rId1"/>
          <a:stretch/>
        </p:blipFill>
        <p:spPr>
          <a:xfrm>
            <a:off x="533520" y="2286000"/>
            <a:ext cx="2219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i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though the Sui dynasty didn’t last lo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ts leaders restored order in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eation of the Grand Canal- a canal linking northern and southern China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gan during this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d Canal was used to transport grain through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largest ancient canal in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Grand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randcanal"/>
          <p:cNvPicPr/>
          <p:nvPr/>
        </p:nvPicPr>
        <p:blipFill>
          <a:blip r:embed="rId1"/>
          <a:stretch/>
        </p:blipFill>
        <p:spPr>
          <a:xfrm>
            <a:off x="228600" y="1295280"/>
            <a:ext cx="4249800" cy="5334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anal"/>
          <p:cNvPicPr/>
          <p:nvPr/>
        </p:nvPicPr>
        <p:blipFill>
          <a:blip r:embed="rId2"/>
          <a:stretch/>
        </p:blipFill>
        <p:spPr>
          <a:xfrm>
            <a:off x="4876920" y="1495440"/>
            <a:ext cx="3714480" cy="178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image?id=19402&amp;rendTypeId=4"/>
          <p:cNvPicPr/>
          <p:nvPr/>
        </p:nvPicPr>
        <p:blipFill>
          <a:blip r:embed="rId3"/>
          <a:stretch/>
        </p:blipFill>
        <p:spPr>
          <a:xfrm>
            <a:off x="4724280" y="3795840"/>
            <a:ext cx="419112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18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 former Sui official overthrew the old gover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w Tang dynast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asted for 3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tang-dynasty-map1"/>
          <p:cNvPicPr/>
          <p:nvPr/>
        </p:nvPicPr>
        <p:blipFill>
          <a:blip r:embed="rId1"/>
          <a:stretch/>
        </p:blipFill>
        <p:spPr>
          <a:xfrm>
            <a:off x="2286000" y="3505320"/>
            <a:ext cx="4533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greatest rulers was Taiz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aizong conquered many lands, reformed the military and created law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uanzong was another great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der Xuanzong poetry and culture flou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ang dynasty also include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only woman to rule China- Empress W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he used ruthless methods but she brought stability and prosperity to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k on page 1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ic63p20avr"/>
          <p:cNvPicPr/>
          <p:nvPr/>
        </p:nvPicPr>
        <p:blipFill>
          <a:blip r:embed="rId1"/>
          <a:stretch/>
        </p:blipFill>
        <p:spPr>
          <a:xfrm>
            <a:off x="5238720" y="3803760"/>
            <a:ext cx="299088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a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ang Dynasty is known as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lden age of Chinese civilization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ulture flour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ina gr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include much of eastern Asia and 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lden Age of Buddhis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400 - 8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w technolog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wa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Tang Dynasty Map"/>
          <p:cNvPicPr/>
          <p:nvPr/>
        </p:nvPicPr>
        <p:blipFill>
          <a:blip r:embed="rId1"/>
          <a:stretch/>
        </p:blipFill>
        <p:spPr>
          <a:xfrm>
            <a:off x="762120" y="4356000"/>
            <a:ext cx="3219480" cy="2273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h2_19"/>
          <p:cNvPicPr/>
          <p:nvPr/>
        </p:nvPicPr>
        <p:blipFill>
          <a:blip r:embed="rId2"/>
          <a:stretch/>
        </p:blipFill>
        <p:spPr>
          <a:xfrm>
            <a:off x="6705720" y="3733920"/>
            <a:ext cx="2243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ople’s Republic of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ij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where the Olympics were ho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Geographic map of Asia"/>
          <p:cNvPicPr/>
          <p:nvPr/>
        </p:nvPicPr>
        <p:blipFill>
          <a:blip r:embed="rId1"/>
          <a:stretch/>
        </p:blipFill>
        <p:spPr>
          <a:xfrm>
            <a:off x="3429000" y="201924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ve Dynasties and Ten Kingd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Tang Dynasty fell, China was divided into separate kingdoms for power in a period know as the Five Dynasties and Ten Kingd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Tang dynasty fell there was short a period of cha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60, China was reunified under the Song dynasty, which lasted till 12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-7-25"/>
          <p:cNvPicPr/>
          <p:nvPr/>
        </p:nvPicPr>
        <p:blipFill>
          <a:blip r:embed="rId1"/>
          <a:stretch/>
        </p:blipFill>
        <p:spPr>
          <a:xfrm>
            <a:off x="5791320" y="1447920"/>
            <a:ext cx="28875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o K’uang-yin founded the Song dynas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 He was a general who was made emperor by his soldiers in 960 A.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ungdynasty"/>
          <p:cNvPicPr/>
          <p:nvPr/>
        </p:nvPicPr>
        <p:blipFill>
          <a:blip r:embed="rId1"/>
          <a:stretch/>
        </p:blipFill>
        <p:spPr>
          <a:xfrm>
            <a:off x="5638680" y="3352680"/>
            <a:ext cx="26290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ng Dyna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the Song dynasty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rming reached new h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 trade became mo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per mone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wa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lture flour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GL-Farming"/>
          <p:cNvPicPr/>
          <p:nvPr/>
        </p:nvPicPr>
        <p:blipFill>
          <a:blip r:embed="rId1"/>
          <a:stretch/>
        </p:blipFill>
        <p:spPr>
          <a:xfrm>
            <a:off x="4800600" y="3962520"/>
            <a:ext cx="411480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uring the Period of Disunion, what often happed when different cultures came into contact with each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was cultural warfare that lasted until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lture wa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argued until one culture agreed to adapt all aspects of the other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blended to form a new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ultures remained distinct, with very little mixing of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was the lasting achieve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ang Chien’s Sui dynas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dynasty reunified China, ending the Period of Dis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i dynasty is the longest-lasting dynasty in Chinese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i dynasty conquered most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 dynasty leaders promoted the complete conversion of its people to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o historians view the Tang dyn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 the golden age of Chinese civil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 dynasty leaders lived in palaces made of solid g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located between the gold mines in the south and valuable salt resources in the n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tisans during the Tang dynasty learned to work with gold in new and exciting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was a period of great expansion as well as artistic, legal, and cultural achie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id so many people turn to Budd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the Period of Disun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 Buddhist temples offered food to anyone willing to   convert to the reli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kingdom’s leaders forced people to convert to Buddh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dhism offered the people a strong education for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took comfort in the Buddhist teaching that people can escape suffering through a cycle of rebi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of the following correctly shows the order of dynasties in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, Song, 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i, Tang, S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ng, Song, S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g, Sui, 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 in the 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y re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 food re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isher-Price toys subject to recall. (AP / Kevin Wolf)"/>
          <p:cNvPicPr/>
          <p:nvPr/>
        </p:nvPicPr>
        <p:blipFill>
          <a:blip r:embed="rId1"/>
          <a:stretch/>
        </p:blipFill>
        <p:spPr>
          <a:xfrm>
            <a:off x="990720" y="3921120"/>
            <a:ext cx="4267080" cy="2270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0071024_335679_02"/>
          <p:cNvPicPr/>
          <p:nvPr/>
        </p:nvPicPr>
        <p:blipFill>
          <a:blip r:embed="rId2"/>
          <a:stretch/>
        </p:blipFill>
        <p:spPr>
          <a:xfrm>
            <a:off x="5638680" y="1523880"/>
            <a:ext cx="32292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 learn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press Wu ruled China with an iron fist.  Those who threatened her power risked death. Yet she was an effective leader and appointed highly skilled offic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ynasty would have collapsed and thrown China into another Period of Dis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 sons would have taken over leadership of the dynas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were so many skilled leaders that it would not have made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vading empire would have conquered all of Ch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than a billion people live in China, that’s 1,321,851,900 to be exa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U.S. population is about 301 mi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people live in rural (country)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# of every 5 people                                   live in Chi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zhaoqing"/>
          <p:cNvPicPr/>
          <p:nvPr/>
        </p:nvPicPr>
        <p:blipFill>
          <a:blip r:embed="rId1"/>
          <a:stretch/>
        </p:blipFill>
        <p:spPr>
          <a:xfrm>
            <a:off x="4800600" y="4038480"/>
            <a:ext cx="3648240" cy="251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NDO-CHINA TIES: Chinese are more interested to know about the historical connections between China, India."/>
          <p:cNvPicPr/>
          <p:nvPr/>
        </p:nvPicPr>
        <p:blipFill>
          <a:blip r:embed="rId2"/>
          <a:stretch/>
        </p:blipFill>
        <p:spPr>
          <a:xfrm>
            <a:off x="1295280" y="4952880"/>
            <a:ext cx="2362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ool in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s must go to school for nin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students go to five years of elementary school, three years of junior high and two years of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hinese children attend a class at a primary school in China's rural Panghai town, Guizhou Province March 1, 2006. Spending on education is expected to take up a record 4 per cent of China's gross domestic product (GDP) during the coming five years"/>
          <p:cNvPicPr/>
          <p:nvPr/>
        </p:nvPicPr>
        <p:blipFill>
          <a:blip r:embed="rId1"/>
          <a:stretch/>
        </p:blipFill>
        <p:spPr>
          <a:xfrm>
            <a:off x="2057400" y="3236760"/>
            <a:ext cx="50292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na’s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na’s geography includes mountains, deserts and fertile river bas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’s the world’s third largest country after Russia and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orld’s highest point- Mt. Everest borders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t Everest"/>
          <p:cNvPicPr/>
          <p:nvPr/>
        </p:nvPicPr>
        <p:blipFill>
          <a:blip r:embed="rId1"/>
          <a:stretch/>
        </p:blipFill>
        <p:spPr>
          <a:xfrm>
            <a:off x="5105520" y="4038480"/>
            <a:ext cx="3267000" cy="261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ap"/>
          <p:cNvPicPr/>
          <p:nvPr/>
        </p:nvPicPr>
        <p:blipFill>
          <a:blip r:embed="rId2"/>
          <a:stretch/>
        </p:blipFill>
        <p:spPr>
          <a:xfrm>
            <a:off x="990720" y="4343400"/>
            <a:ext cx="2895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6252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these maps tell us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hina_agricultural_86"/>
          <p:cNvPicPr/>
          <p:nvPr/>
        </p:nvPicPr>
        <p:blipFill>
          <a:blip r:embed="rId1"/>
          <a:stretch/>
        </p:blipFill>
        <p:spPr>
          <a:xfrm>
            <a:off x="533520" y="3352680"/>
            <a:ext cx="3047760" cy="292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hin-pop"/>
          <p:cNvPicPr/>
          <p:nvPr/>
        </p:nvPicPr>
        <p:blipFill>
          <a:blip r:embed="rId2"/>
          <a:stretch/>
        </p:blipFill>
        <p:spPr>
          <a:xfrm>
            <a:off x="4343400" y="3317760"/>
            <a:ext cx="4495680" cy="300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62485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Agricultural 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5334120" y="62625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of Population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hina map"/>
          <p:cNvPicPr/>
          <p:nvPr/>
        </p:nvPicPr>
        <p:blipFill>
          <a:blip r:embed="rId3"/>
          <a:stretch/>
        </p:blipFill>
        <p:spPr>
          <a:xfrm>
            <a:off x="4648320" y="152280"/>
            <a:ext cx="38862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re going to start studying China after the collapse of the Han dynasty in 2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AncientChina"/>
          <p:cNvPicPr/>
          <p:nvPr/>
        </p:nvPicPr>
        <p:blipFill>
          <a:blip r:embed="rId1"/>
          <a:stretch/>
        </p:blipFill>
        <p:spPr>
          <a:xfrm>
            <a:off x="1828800" y="2743200"/>
            <a:ext cx="563868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cient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the Han Dynasty fell, China split into several rival king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eriod is called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iod of Dis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The Great Wall"/>
          <p:cNvPicPr/>
          <p:nvPr/>
        </p:nvPicPr>
        <p:blipFill>
          <a:blip r:embed="rId1"/>
          <a:stretch/>
        </p:blipFill>
        <p:spPr>
          <a:xfrm>
            <a:off x="6248520" y="3581280"/>
            <a:ext cx="196200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0:35:18Z</dcterms:created>
  <dc:creator>MS</dc:creator>
  <dc:description/>
  <dc:language>en-US</dc:language>
  <cp:lastModifiedBy>San Diego City Schools</cp:lastModifiedBy>
  <dcterms:modified xsi:type="dcterms:W3CDTF">2013-01-08T19:54:45Z</dcterms:modified>
  <cp:revision>43</cp:revision>
  <dc:subject/>
  <dc:title>China </dc:title>
</cp:coreProperties>
</file>